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7A3-5CCC-4070-AE50-A2E9F5E7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D37-4F53-4B61-B1C0-E270E56D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856-FE80-4A0F-AE84-8DD2D6D4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A59-C662-4940-8B4C-4563F97E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A22-CBF0-43E2-892F-ED59F9AD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EDF-B673-4129-B116-A3FC0089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68B-DE66-4240-B722-E7661FCE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BC3-221E-4E0A-9C99-24D38846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27E-03A7-415B-9FF1-0DC4B7F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6A8-421C-416F-B1E4-DBBA1DDE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F32-9B17-40E6-97B8-FD054CA5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041-8296-4F23-A132-2121727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01C3-92B8-4FC5-9986-52D98D8CD0C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9 Ako vtáča spokojné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Ako vtáča spokojné je v hniezde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oc aj vietor duje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my tiež nemusíme báť sa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keď je s nami nebies Vlád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nás mannou z neba sý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 neho sme zlom skryt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svojou rukou chrá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darúva požehna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bolesť srdce mu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nás dôverovať u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ší v žiali, slzy stier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zahynie naša vie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ho Pána miluj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oliehať sa naňho smi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sa vôkol čo chce d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ďaleko on nikdy nie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nám berie a či d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vať nás neprest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iba na to slú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nás k sebe doviesť túž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19:45Z</dcterms:modified>
  <cp:revision>91</cp:revision>
  <dc:subject/>
  <dc:title>Je veľký náš Pán, on slávy je Kráľ Nech do všetkých strán  spev vrúcnych znie chvál.</dc:title>
</cp:coreProperties>
</file>